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52A-BA74-4E71-B415-FD903580AE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E5C1-3AC3-45C7-9B32-8635EAC4AA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6B31-903E-460E-9BD9-2C85E8AC92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C23E-A7F2-47B0-A7C5-C1F0A62F70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8079-F678-4383-AA74-56F85D50FA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4BF0-194F-4432-87EB-F5A115986F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6CD-01CE-4F44-98E7-C67D323917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176-9B0F-407F-B9DA-0F0FE86066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60A-BA28-49B9-A1AE-00F5F997F1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7D1F-C7D8-4020-887E-BCB60EC71F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CA0-EF6B-4E56-A80C-9B75608C9D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44F5-B69B-435C-8FE2-9F02EE67F2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8F78-A232-41DA-81A7-FC1D08246D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8969-8D8B-4BFE-A161-66B2221D0B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7382-7E79-46A5-A334-7447920C06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0DB-BDE2-4E63-ACF8-ED71FD11E6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3863-5B7C-4DC9-8BFB-55BD2D83A6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B7E2-D8B2-4F03-B514-F4A3C58A4B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F008-AAF1-4830-9111-5035FFF003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DC54-3E1C-45F0-A3E1-78EF3E0F8F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9AA2-370D-4F20-A9DC-6D05B308C2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92F6-7B3B-47C6-9E40-EC4D8A7FBD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D610-6B1C-4501-824E-8FE1CF229E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265-4746-4BAE-A5D2-5793DEF61B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5E4A-D875-4ED5-8EA7-91E971C81B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A36-D494-4B93-9BF1-2B8C6E405D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2733-B967-43C2-A61A-42BA756D4F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A102-6453-4A8F-B95B-1C7118A7E2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0C1A-CC5C-46EF-804B-058FBB392C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E0A5-BEB8-41FA-BC8A-796A481115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6243-BBE8-44EE-87EE-E0974A4453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38BB-7CB4-4ADD-AE73-85917871BD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06DC-BD12-4088-BD0D-AF2784CB8F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58FC-2C1B-4E18-A143-3E0E2D0AB5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EA2-5C02-443F-BBFB-325E0C3C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7AD-9102-452D-8324-06A65D03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188-4D47-41A4-8CCA-B2937D29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5DD-B709-4872-A836-F5CB70E3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C15-B560-4390-B10A-C8F45BBA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913-EE84-43CF-A38B-DF5AAF2C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18C-735A-437D-843B-BAB2E10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E67-B1C0-4D0B-87CB-D9FDC220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C66-77B1-40E3-9A53-68D79622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B50-C081-48D1-BEFB-41EB2558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5D5-C18A-43F9-ABE9-7D23E013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A76-22F2-42B5-B8BF-E7277AD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3CE-1237-471F-8EE0-442042F83F0B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半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ànb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반쪽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절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것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사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跳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àow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춤추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热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na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떠들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왜냐하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轻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iánqīngré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젊은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조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지속의 의미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àngb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출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zhèyà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렇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场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chǎngmià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왕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聊天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liáotiān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잡담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或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òzh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던가 …이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찾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신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咖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fē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커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二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èrh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얼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중국악기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까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 향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을 대신하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에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의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告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àos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리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半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íngba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해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o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소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잊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1:56:50Z</dcterms:created>
  <dc:creator>System</dc:creator>
  <dc:description/>
  <dc:language>en-US</dc:language>
  <cp:lastModifiedBy>System</cp:lastModifiedBy>
  <dcterms:modified xsi:type="dcterms:W3CDTF">2014-01-28T02:20:47Z</dcterms:modified>
  <cp:revision>3</cp:revision>
  <dc:subject/>
  <dc:title>슬라이드 1</dc:title>
</cp:coreProperties>
</file>